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1F9-BA06-4427-9162-9421D33B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90E-E7ED-4536-A2CD-B6B613C8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832-F318-4907-8806-AF0984FE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CB7-32EE-42A2-930B-DAE0FF8B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200-2BD1-4498-B978-95C23AF9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9A0-267F-4AAE-ABB3-7E550D6F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EC0-2E8D-4103-B6C6-195AF448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E3E-1E04-449D-9446-473EC3E3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0EF-D3DE-4EC0-A35E-3493194F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714-429E-4422-BB7B-2C783225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B75-5B1D-4824-AB4D-3E5B5B3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154-BA1C-441D-82F5-BE4C86D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294B-32F1-42DC-80BF-9984E071D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rees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3600" y="472428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533520"/>
            <a:ext cx="7315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Reeses Peanut Butter Cup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5638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ve a rastaday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Reese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1784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4724280"/>
            <a:ext cx="6934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eese’s Peanut Butter Cup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ree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45720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se’s Peanut Butter Cups are loved by many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Reese’s Peanut butter c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1920 the Reese’s peanut butter cups were born in Frosty hill in York county in Pennsylvania on May, 2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8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fore, Harry called the peanut butter cups penny cups because they were sold for one 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is manufacturing plant was 100,000 sq. ft. and it opened in August 195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der The Hershey’s company’s hands, the Reese’s franchise has continued to thrive and exp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ese’s peanut butter cups were loved by many people and still are today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Harry Burnett Re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rry invented the Reese’s peanut butter cups in the 192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rry grew up working on a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married around 19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rry had 16 k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rry was hired to work the Hershey’s dairy farm in Hershey, 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le working there he caught the candy fever and started making candy creations in his bas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1920 he set up his own company called the HB Reese Candy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ese died of a heart attack on May 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195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34Z</dcterms:created>
  <dc:creator>install</dc:creator>
  <dc:description/>
  <dc:language>en-US</dc:language>
  <cp:lastModifiedBy>install</cp:lastModifiedBy>
  <dcterms:modified xsi:type="dcterms:W3CDTF">2010-05-12T17:35:44Z</dcterms:modified>
  <cp:revision>7</cp:revision>
  <dc:subject/>
  <dc:title>Slide 1</dc:title>
</cp:coreProperties>
</file>